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E88C-299D-428C-937E-54E34BD2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CA3AF-5B3D-4E66-9133-817B30C7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7BD7-7BEA-45C4-A193-FC893D96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4EC18-F9B8-48C1-AB14-33A414FE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BF58-35D6-4456-B332-EC09BAA4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CB87-273A-4370-8443-78FD41B6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A2DA-5445-4B73-871E-75889E59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6351-162F-4E9B-A164-AD0AD8E9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359F-75BA-48D0-B0ED-424FDAE8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F5DD-FFE7-4515-8E78-30507B41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1D48-3B41-4EE8-8087-7F2AA193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A14B0-6783-4407-A45F-482FB636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0211-E79D-423A-A09A-A420B981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E8C0-F140-49C2-B9BD-F3851592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6138-25CA-46BA-AA1B-A8C563EA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B33D-9A7B-455D-A057-77A92CC7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0E0A-382D-41E1-B530-5D205360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46601-8DBE-468B-9A0E-0A9BE58E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FEC02-99A7-458A-8347-FD4813DA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7C5CD-AF63-4E6B-932B-2DABD79C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8153-7ECA-46CB-B447-DD1BEC4E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165F4-F0CF-44E1-AED5-B12C4405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2C497-51F8-45E8-AC17-FD85C732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18AA7-F131-49CD-9DCF-2CCAA238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1D75-E9B1-4D69-8129-3ED118024E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1AF4-D7C7-4613-BF15-DAAE4F4FD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Arial"/>
              </a:rPr>
              <a:t>Me llamo ___________ Clase 8 IM</a:t>
            </a:r>
            <a:br>
              <a:rPr sz="3600"/>
            </a:br>
            <a:r>
              <a:rPr b="0" lang="en-US" sz="3600" spc="-1" strike="noStrike">
                <a:solidFill>
                  <a:srgbClr val="6699ff"/>
                </a:solidFill>
                <a:latin typeface="Arial"/>
              </a:rPr>
              <a:t>La fecha es el 11 de octu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opósito 9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donde fuiste durante el verano?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 con el pretérito de 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alumnos ________ exitosos en el ex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yer, yo ________ la que sacó la nota mas b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 muy estu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u ___________ el que mejor nota sac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os _________ el único que no tomó el ex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eterito de IR/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1600200"/>
          <a:ext cx="8534520" cy="4597560"/>
        </p:xfrm>
        <a:graphic>
          <a:graphicData uri="http://schemas.openxmlformats.org/drawingml/2006/table">
            <a:tbl>
              <a:tblPr/>
              <a:tblGrid>
                <a:gridCol w="4114800"/>
                <a:gridCol w="2286000"/>
                <a:gridCol w="2133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i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s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D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, ELLA,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, ELLAS,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5098680" y="2286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ff33"/>
                </a:solidFill>
                <a:latin typeface="Times New Roman"/>
              </a:rPr>
              <a:t>F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7640" y="312408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ff33"/>
                </a:solidFill>
                <a:latin typeface="Times New Roman"/>
              </a:rPr>
              <a:t>Fui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30280" y="391644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ff33"/>
                </a:solidFill>
                <a:latin typeface="Times New Roman"/>
              </a:rPr>
              <a:t>F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1320" y="46782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ff33"/>
                </a:solidFill>
                <a:latin typeface="Times New Roman"/>
              </a:rPr>
              <a:t>Fui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960" y="548640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ff33"/>
                </a:solidFill>
                <a:latin typeface="Times New Roman"/>
              </a:rPr>
              <a:t>Fue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08360" y="2286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F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87320" y="307800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Fui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6280" y="384012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F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11000" y="46782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Fui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10640" y="551664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Fue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ntent Placeholder 2"/>
          <p:cNvSpPr/>
          <p:nvPr/>
        </p:nvSpPr>
        <p:spPr>
          <a:xfrm>
            <a:off x="457200" y="914400"/>
            <a:ext cx="8183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 fontScale="94000"/>
          </a:bodyPr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0000"/>
                </a:solidFill>
                <a:latin typeface="Arial"/>
              </a:rPr>
              <a:t>I-  </a:t>
            </a:r>
            <a:r>
              <a:rPr b="0" i="1" lang="es-DO" sz="2800" spc="-1" strike="noStrike">
                <a:solidFill>
                  <a:srgbClr val="000000"/>
                </a:solidFill>
                <a:latin typeface="Arial"/>
              </a:rPr>
              <a:t>Copia y responde en oraciones comple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Arial"/>
              </a:rPr>
              <a:t>Ayer, ¿fuiste a la escue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Arial"/>
              </a:rPr>
              <a:t>¿Fue fácil o difícil el examen de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Arial"/>
              </a:rPr>
              <a:t>¿Cuándo fue la ultima vez que fuiste a un balnear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Arial"/>
              </a:rPr>
              <a:t>¿Fuiste  a esquiar con tus amig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Arial"/>
              </a:rPr>
              <a:t>¿Quién de tus amigos fue el más diverti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97868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II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 con el pretérito de IR o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 a la escuela y él también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 al mercado y él también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 a la playa y él también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 al lago y él también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_a la playa y ellos también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_ al campo de futbol y ellos también 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 a esquiar y ellos también 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II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con el preterito de 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ú _______ a que escuela prima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_______ tu hermano a la mism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_______ ustedes a la escuela a p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, nosotros ___________ en 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, yo no _______ asi. Yo _____ a pie y él ___________ en 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area 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istrib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3:10:28Z</dcterms:created>
  <dc:creator>Helen Zumaeta</dc:creator>
  <dc:description/>
  <dc:language>en-US</dc:language>
  <cp:lastModifiedBy>Helen Zumaeta</cp:lastModifiedBy>
  <dcterms:modified xsi:type="dcterms:W3CDTF">2012-10-17T13:46:41Z</dcterms:modified>
  <cp:revision>4</cp:revision>
  <dc:subject/>
  <dc:title>Conjugacion</dc:title>
</cp:coreProperties>
</file>